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A44-D552-47AB-BC0F-3F36756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A06-2D89-4A70-A084-D2EF44AD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5B52-B8D0-420E-860F-5063AC35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1497-D4C4-4642-8354-1457C7CA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F08-E4E3-44D9-AD5E-56710146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F13-ADC7-4D15-92FA-A285C94C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E46-1CDE-417D-A8C4-1DBB959C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090-043D-4C80-AF6A-1059755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E78-8C7F-4AD5-8E99-A35E51DA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1E3-D0C7-4896-A5A5-1F074ABB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8CB-46AD-42A9-A3D8-55A8A7D9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513-A2CE-418F-86DA-3C11D86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1F55-3822-4953-8649-4444DCC7E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determine the point of view from which a story is told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861080" y="2203560"/>
            <a:ext cx="39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What do you see in this pictu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Quietl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 Pie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your Reading Response Journal, answer the following question.</a:t>
            </a:r>
            <a:br>
              <a:rPr sz="4000"/>
            </a:b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From which point of view do you think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Treasure of Lemon Brow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is told from AND why would the author choose to write from this point of vie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o use AT LEAST two pieces of text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U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ronouns do you see in the pie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know the thoughts and feelings of BOTH characters or just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he point of view from which an author presents a story so import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two people tell a story in the sa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s pick different characters and ideas to empha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Person 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-person Point of 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tory told by one of the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nouns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Because the story is told from just one character’s point of view, the reader is limited to knowing ONLY what the character knows, thinks, and fe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6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Person Point of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ird Person Point of View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d by NARRATOR that is NOT in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such as she, he, and they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62320"/>
            <a:ext cx="54100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askerville Old Face"/>
              </a:rPr>
              <a:t>Third Person LIMITED Omniscient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-Narrator relates to the thoughts and feelings of just ONE charac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72000" y="2362320"/>
            <a:ext cx="3672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Person POV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rd Person Omnisc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Narrator relates to thoughts and feelings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POV continu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was nervous because he cheated on his test.  He thought to himself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could I be so stupid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Kim, his teacher, was very angry with Sean.  She knew he was an intelligent kid.  She wondered what she would say to Sean and how she would punish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each station, read the excerpt and work with your group members to discuss the questions that correspond with each piece of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ner 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from the bag of characters and a strip of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tory using all of the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from the point-of-view you were assign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00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ry Brainst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nflict going to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ays in which the characters attempt to solv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-of-View (picked from b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s you want your readers to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1:27:26Z</dcterms:created>
  <dc:creator>Administrator</dc:creator>
  <dc:description/>
  <dc:language>en-US</dc:language>
  <cp:lastModifiedBy>Administrator</cp:lastModifiedBy>
  <dcterms:modified xsi:type="dcterms:W3CDTF">2010-12-09T13:59:29Z</dcterms:modified>
  <cp:revision>18</cp:revision>
  <dc:subject/>
  <dc:title>Point of View  Do Now</dc:title>
</cp:coreProperties>
</file>